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9652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96516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5468400" y="-36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107880" y="514440"/>
            <a:ext cx="3429000" cy="2571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5468400" y="6513120"/>
            <a:ext cx="417996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6727E-05AE-442D-BB04-FDF26A5A202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7"/>
          <p:cNvSpPr/>
          <p:nvPr/>
        </p:nvSpPr>
        <p:spPr>
          <a:xfrm>
            <a:off x="5468760" y="6513480"/>
            <a:ext cx="417996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8BA32-00A1-4DF8-81B3-6DB2670C94E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310824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64800" y="3257640"/>
            <a:ext cx="7720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TW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3CD60-90A2-42A0-91F4-B751EE88C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9EA-CF7E-4D39-9F14-29611D436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0877-07AC-4E99-95CB-1D4236B571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5B73-CAE1-4603-88C8-1FDE55961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7CF0-70DF-40A3-A5AD-DE855C44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7FB3-A499-490F-9D78-3A295CB11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C888A-C0DC-4E64-8487-4F2929E0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CAAB-1EE4-4BFE-86F9-A71C9FDD4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F759-8487-4B8F-82F0-3870E62AE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07AE-6048-499D-AA66-21D76FC11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AB13B-2E87-4B61-A1E5-350807E3F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5B5B-1566-403C-8331-85447E57F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圖片3"/>
          <p:cNvPicPr/>
          <p:nvPr/>
        </p:nvPicPr>
        <p:blipFill>
          <a:blip r:embed="rId2"/>
          <a:srcRect l="3308" t="36260" r="2401" b="7504"/>
          <a:stretch/>
        </p:blipFill>
        <p:spPr>
          <a:xfrm>
            <a:off x="4067280" y="5691240"/>
            <a:ext cx="5040360" cy="1193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1EEFE-2D1B-4ECC-9569-33ED41ADB14B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108000" y="142920"/>
            <a:ext cx="3181320" cy="695880"/>
            <a:chOff x="108000" y="142920"/>
            <a:chExt cx="3181320" cy="695880"/>
          </a:xfrm>
        </p:grpSpPr>
        <p:pic>
          <p:nvPicPr>
            <p:cNvPr id="5" name="圖片 1" descr="描述: C:\Users\AA8255\Desktop\banner_title.gif"/>
            <p:cNvPicPr/>
            <p:nvPr/>
          </p:nvPicPr>
          <p:blipFill>
            <a:blip r:embed="rId3"/>
            <a:srcRect l="9700" t="0" r="0" b="0"/>
            <a:stretch/>
          </p:blipFill>
          <p:spPr>
            <a:xfrm>
              <a:off x="108000" y="142920"/>
              <a:ext cx="3155760" cy="500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" name="Text Box 8"/>
            <p:cNvSpPr/>
            <p:nvPr/>
          </p:nvSpPr>
          <p:spPr>
            <a:xfrm>
              <a:off x="828720" y="531720"/>
              <a:ext cx="2460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400" spc="-1" strike="noStrike">
                  <a:solidFill>
                    <a:srgbClr val="000099"/>
                  </a:solidFill>
                  <a:latin typeface="文鼎簽字筆體E"/>
                  <a:ea typeface="文鼎簽字筆體E"/>
                </a:rPr>
                <a:t>健康  關懷  多元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投影片編號版面配置區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379EE-52E8-47FC-B7FF-B5FA312EEEA7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Text Box 56"/>
          <p:cNvSpPr/>
          <p:nvPr/>
        </p:nvSpPr>
        <p:spPr>
          <a:xfrm>
            <a:off x="971640" y="1557360"/>
            <a:ext cx="7416720" cy="37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Times New Roman"/>
              </a:rPr>
              <a:t>102</a:t>
            </a: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學年度第二學期期末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校務會議校務報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林美真校長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c00000"/>
                </a:solidFill>
                <a:latin typeface="Times New Roman"/>
              </a:rPr>
              <a:t>                             </a:t>
            </a:r>
            <a:r>
              <a:rPr b="1" lang="en-US" sz="3200" spc="-1" strike="noStrike">
                <a:solidFill>
                  <a:srgbClr val="c00000"/>
                </a:solidFill>
                <a:latin typeface="Times New Roman"/>
              </a:rPr>
              <a:t>103063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899640" y="809280"/>
            <a:ext cx="7775640" cy="571500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102</a:t>
            </a:r>
            <a:r>
              <a:rPr b="1" lang="zh-TW" sz="40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學</a:t>
            </a:r>
            <a:r>
              <a:rPr b="1" lang="zh-TW" sz="4000" spc="-1" strike="noStrike" u="sng">
                <a:solidFill>
                  <a:srgbClr val="0000cc"/>
                </a:solidFill>
                <a:uFillTx/>
                <a:latin typeface="超研澤中圓"/>
                <a:ea typeface="超研澤中圓"/>
              </a:rPr>
              <a:t>第二學期期初</a:t>
            </a:r>
            <a:r>
              <a:rPr b="1" lang="zh-TW" sz="4000" spc="-1" strike="noStrike" u="sng">
                <a:solidFill>
                  <a:srgbClr val="ff0000"/>
                </a:solidFill>
                <a:uFillTx/>
                <a:latin typeface="超研澤中圓"/>
                <a:ea typeface="超研澤中圓"/>
              </a:rPr>
              <a:t>校務研討重點</a:t>
            </a:r>
            <a:br>
              <a:rPr sz="40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 </a:t>
            </a:r>
            <a:r>
              <a:rPr b="1" lang="zh-TW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1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優高國際教育課程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(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高中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)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2. i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探索服務學習課程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(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國中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)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 </a:t>
            </a:r>
            <a:r>
              <a:rPr b="1" lang="zh-TW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3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扶弱拔尖補救教學實施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(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國中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)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4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多元適性學群實施研擬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(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高中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)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 </a:t>
            </a:r>
            <a:r>
              <a:rPr b="1" lang="zh-TW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5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閱讀推動</a:t>
            </a:r>
            <a:br>
              <a:rPr sz="3600"/>
            </a:br>
            <a:r>
              <a:rPr b="1" lang="en-US" sz="40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v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6.12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年國教推動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—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生涯輔導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x</a:t>
            </a: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7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教師專業社群發展</a:t>
            </a:r>
            <a:br>
              <a:rPr sz="3600"/>
            </a:br>
            <a:r>
              <a:rPr b="1" lang="en-US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x</a:t>
            </a:r>
            <a:r>
              <a:rPr b="1" lang="en-US" sz="36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zh-TW" sz="36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</a:t>
            </a:r>
            <a:r>
              <a:rPr b="1" lang="en-US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8.</a:t>
            </a:r>
            <a:r>
              <a:rPr b="1" lang="zh-TW" sz="3600" spc="-1" strike="noStrike">
                <a:solidFill>
                  <a:srgbClr val="0000cc"/>
                </a:solidFill>
                <a:latin typeface="超研澤中圓"/>
                <a:ea typeface="超研澤中圓"/>
              </a:rPr>
              <a:t>閒置空間運用</a:t>
            </a:r>
            <a:br>
              <a:rPr sz="3600"/>
            </a:br>
            <a:br>
              <a:rPr sz="3200"/>
            </a:br>
            <a:br>
              <a:rPr sz="4000"/>
            </a:br>
            <a:r>
              <a:rPr b="1" lang="zh-TW" sz="4000" spc="-1" strike="noStrike">
                <a:solidFill>
                  <a:srgbClr val="ff0000"/>
                </a:solidFill>
                <a:latin typeface="超研澤中圓"/>
                <a:ea typeface="超研澤中圓"/>
              </a:rPr>
              <a:t>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 txBox="1"/>
          <p:nvPr/>
        </p:nvSpPr>
        <p:spPr>
          <a:xfrm>
            <a:off x="2123640" y="1773360"/>
            <a:ext cx="619308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發揮集體智慧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5400" spc="-1" strike="noStrike">
                <a:solidFill>
                  <a:srgbClr val="c00000"/>
                </a:solidFill>
                <a:latin typeface="Arial"/>
                <a:ea typeface="文鼎粗行楷"/>
              </a:rPr>
              <a:t>共創美好金中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cc"/>
                </a:solidFill>
                <a:latin typeface="Arial"/>
                <a:ea typeface="文鼎粗行楷"/>
              </a:rPr>
              <a:t>~~</a:t>
            </a:r>
            <a:r>
              <a:rPr b="0" lang="zh-TW" sz="5400" spc="-1" strike="noStrike">
                <a:solidFill>
                  <a:srgbClr val="0000cc"/>
                </a:solidFill>
                <a:latin typeface="Arial"/>
                <a:ea typeface="文鼎粗行楷"/>
              </a:rPr>
              <a:t>感謝有你</a:t>
            </a:r>
            <a:r>
              <a:rPr b="0" lang="en-US" sz="5400" spc="-1" strike="noStrike">
                <a:solidFill>
                  <a:srgbClr val="0000cc"/>
                </a:solidFill>
                <a:latin typeface="Arial"/>
                <a:ea typeface="文鼎粗行楷"/>
              </a:rPr>
              <a:t>~~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投影片編號版面配置區 3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537EC-0438-4BA8-A0AF-A92076779A80}" type="slidenum">
              <a:rPr b="0" lang="en-US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24T12:51:37Z</dcterms:created>
  <dc:creator>yinglin</dc:creator>
  <dc:description/>
  <dc:language>en-US</dc:language>
  <cp:lastModifiedBy>cshs-pcp</cp:lastModifiedBy>
  <dcterms:modified xsi:type="dcterms:W3CDTF">2014-06-30T00:50:13Z</dcterms:modified>
  <cp:revision>511</cp:revision>
  <dc:subject/>
  <dc:title>初級資訊種子學校 第三次執行情形研討會</dc:title>
</cp:coreProperties>
</file>